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47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6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741E-915A-4065-8FE7-15744C89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4899-0E2E-4621-87AA-58F07DA6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1A24F-2244-4FBC-8FE9-F5EC294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FB16C-0406-480F-98E9-F573EE2A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D5576-2A09-4606-A4CB-8A121D5A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F011F-10E3-4645-8ED8-8C732125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4312B-6D65-4B7F-B7F5-D8EDF65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4925F-EC71-4BD5-B069-8CFD4B9A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C2D12-7A68-4F59-8414-0505C13A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F92AA-8D7A-4F2C-BE5A-619F7000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C70BB-4AD3-4FE5-9AC4-B13808FE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D9332-F3DE-4F91-81D3-2D7FF18F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4FE7-5219-4BD7-B125-982BE168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86EEC-4D3C-4063-AB7C-CF976869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05E34-5714-4C19-9DED-80193B75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A3F44-35D2-4E6C-AEED-63BE2305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4D59A-4E12-40A4-84FA-2DAE936B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297A5-6BD5-40A3-BFF0-3119CAF5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CCE40-7268-45CB-9115-BC02E4FE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4AE3E-F8A4-4581-AE72-1C18AC1B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5EA8C-F061-4940-BEAA-F209516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D0408-24E8-4B7A-AEBB-656A03CF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7C296-D6CF-4D8F-85F5-9ADAC328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0036-7F6F-4809-8CFA-5D2EDE14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14DB2-87FD-4E7F-8989-EFCB7759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CC37DC-69BA-45B7-9050-DB4796AB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3752EF-B27E-4678-AAE5-01F9655C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39A51A-0048-401F-9A98-EB7FC3B1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43A323-08E7-40F7-BE5C-9652FBB7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A8CDCF-44BB-405C-BE41-2B0B2418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B15638-2652-4062-8DDD-DA9E4540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39FFCF-DAEE-4E2E-884D-513D9BCA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6DD868-062C-46A4-8373-92720E05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DDF7F5-3973-49C3-900A-79F1A8DC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2039-DB32-45AE-BABC-046E368A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B47DAC-B100-44B0-AF4F-7B135D93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2108C5-C661-4BEC-846D-215DABDA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ECA605-1C27-4DB3-8FA6-6EE76A76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68766-5FBB-441F-9124-39776C7A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7E1FC-CB38-4AB4-955E-109A934B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3626B-036E-45A5-8BF5-509C8A7C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75BE7-7A34-4E00-B8A9-A43F2AC7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A758D-5B4A-4C1A-AC4A-E77030A8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6D450-BA69-4C7B-8A25-12C8C92F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26E6E-B944-43A5-86C1-8D9B943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E36E-7713-4F18-894D-65B56CAA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DAB67-C140-48A7-87AA-519E458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501AD-2D88-44A1-AABF-298948F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DE1CA-AB59-43B0-B691-2C38BE30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A1B53-BC9E-4AA3-92C4-C77E34EC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C3221-149A-4CA9-8EE1-B88E25A1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F85B-205A-436B-8D94-FC1590A9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31EE-880F-4704-A23C-BA9EFE15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2940-6AA8-437A-946E-74F36C70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3BFC-5EF9-4A58-B44A-1C4B12C8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BB08-776C-4523-BCFD-6A09D01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9C51-F22E-447A-BF80-BE17CA7D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FF4A-317A-4075-8125-43C1093E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39A1-A855-42DC-9A5B-2A189758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28BC-B984-41EC-8509-9D487D56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2A62-962F-4798-B829-11A2B1E2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3EDA-02F7-4427-A7E7-582BD611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6080A-C75F-45E8-9ED3-B38446E0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5044B-F4C9-4BA5-8681-E2962F2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7D2B9-229E-4B4E-9A87-07B311AD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BEDC9F-D877-4A76-BD65-99B3DFEC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F5EF9-3332-40D2-A346-C22DF3A5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BDEF-F8F7-400C-AB66-8289C499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B1439-202D-457E-BAC5-ADFB7FBE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41E31-B21C-4801-A0F2-A996A665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D918A3-E601-46E0-9D2D-C3BB120D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6D45B2-4020-4E89-9DFC-34236995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8A210A-0238-463C-A24D-F23B7E2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0CF812-A436-407C-BCF3-E185BFAD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10D55-65B5-4877-AB40-1939FD08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6CD1A-5CD7-449C-AA20-CE50D8BF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60414C-76E6-48A7-B269-9608B4AE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5C30B-CDC3-452B-8B5B-9AE8B730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271A-2B9F-4484-A666-469FBAA4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05CC3-0281-4E80-980D-E8BA1DB9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F002E-B29F-4A73-8764-23CFAB4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D0A7C5-CA38-4F27-A1D3-97E7414A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CCC32-3218-4485-A8BD-43F1A55F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81B88-B5EB-43AB-98E2-BA981B33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F8CDF-5188-477A-9003-0BF3854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3CC0E-6570-474F-83C8-B9D5FDEC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0C8EE-5A5F-4AE7-A0D4-7D92CC35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FCEA48-01B6-42BD-8120-82A21521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DBA8D2-4507-4377-A823-7A41DFAB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F9EF-67C6-4A92-AE70-2BDC796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C64C98-E042-472C-89E3-2BA2B10F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AA29A9-A56E-4E25-9EE9-84BC64BC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C3E81-F912-4D9D-BED7-3C997C2D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A95489-AAF7-4C3F-A414-163E62EB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FB9F57-64A5-4BED-8B26-68B1DA72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EA340F-DD92-4C2F-AD20-F594DE5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988C63-C251-4AC2-82F0-D2F995E1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438579-101A-448F-9689-1B6D27C5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3CC05F-C1D2-43E8-A10B-31B81285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F7E19C-B05B-4EA1-A0AD-1C88F209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A8E1-92ED-4207-9914-4450BB31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F0241-05C1-4691-ABF9-750BD3B9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837578-1DE8-41A4-BFC3-9FF7E238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682638-60EC-4161-9199-CA6A1547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79B26F-0975-43CF-89AE-0A197DFE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172643-C722-4EDD-AB2C-2799123E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4DB688-D4B3-4A73-A662-412EA3BE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CD1F97-260E-46EC-A515-DD18A5DA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CE7B8-F959-4D74-B1A1-62F5C474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5AB99-557A-4C09-8292-1FB72073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7C7A60-4448-4849-955A-6FBC18DE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6214-2A69-4FB2-844E-DFD4F820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FBDBC2-C4F6-405A-A568-FDC19CD9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B21A6E-21CA-4B67-AC6C-33F82969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9AD185-EC93-4672-B017-B7EE6ED1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2D5742-66F4-4E06-9EBF-E2A037E2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A00B00-A22E-4FBF-9E9B-19E3313C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263BC2-5EF3-442B-96BC-54F75732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3E078-9B91-47CC-801E-018EA34E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32E230-EA95-4773-AB3E-B0574CA9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2B714-688E-4F2A-A352-62710074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C6D122-1AC9-4C76-A11A-CB817262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52F3-9AA8-4C22-93A3-FDEEE802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EBB77B-AFA1-4301-934D-75752FE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56CB27-DCDC-480A-9439-2EA323D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A958A-32EE-4118-824B-7C88791B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AED086-1A27-48AB-9EF1-24F678C8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13938-91F2-4FC4-884F-CD6308EF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B2DFB-CD95-4555-B439-2A3C7D94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F0D591-445B-4D9C-AB37-E6B9DF23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5C981F-E9AB-46F9-84AA-142DEF88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2CE762-654E-487C-AE9A-409CC08C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636320-29F2-4390-B60D-44B76DB9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9D61-BECD-4A86-BA68-2C75D057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BB89AC-80A5-49A8-A353-FFB3120D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B19CD-3EF8-4679-B727-6241DC0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6C4E78-988C-4904-B3FE-C916177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1D7299-D1C6-4D5F-8491-520415C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BE4FDE-5F92-4224-AAFC-DB87DB6A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D977E1-6ADB-47E4-BFFE-7C505C00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742AD9-3388-44B7-A2A3-9BED4789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09C48-6F97-4E9E-BEA5-C05090FB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184C1-8CCA-48D7-96B9-FE358722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BFBD6-D06B-4467-B117-BCF297DF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7a79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A0A8-64B1-4B6C-9C04-67B1DF9B06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B58A-A17B-45D2-9865-805B74C97C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D0B4-CAC5-4E97-A320-3A07E463D6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b5b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F57C-A5A5-4224-9E35-2D7E37B1A59D}" type="slidenum">
              <a:rPr b="0" lang="ru-RU" sz="1200" spc="-1" strike="noStrike">
                <a:solidFill>
                  <a:srgbClr val="5b5b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887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aaa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7a79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8180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fdef6"/>
                </a:gs>
                <a:gs pos="100000">
                  <a:srgbClr val="b7b6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1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464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b89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9883-8576-46C2-974B-E50B81FB3D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5AB4-7514-479F-B050-CD172F13B7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F582-5239-4902-B69E-67EF0FD908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3B84-EFE5-4240-8CA1-74E0C326DA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A142-2D7A-4BD1-B1E5-AE797F81E0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AB96-EF58-47F9-91D3-DE08C99AFE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1469-4E97-43C0-BF98-49117A577D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e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b8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B574-FFC7-450B-806E-848AF6292F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b0a25"/>
                </a:solidFill>
                <a:uFillTx/>
                <a:latin typeface="Arial"/>
              </a:rPr>
              <a:t>Лабораторная посуда общего назначения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Химические воронки стеклянные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1" name="Содержимое 3" descr="компоненты для косметики магазин, как сделать крем своими руками, самодельный крем инструменты"/>
          <p:cNvPicPr/>
          <p:nvPr/>
        </p:nvPicPr>
        <p:blipFill>
          <a:blip r:embed="rId1"/>
          <a:stretch/>
        </p:blipFill>
        <p:spPr>
          <a:xfrm>
            <a:off x="1523880" y="161928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Химические воронки пластиковы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3" name="Содержимое 3" descr="http://www.hemltd.ru/export/sites/HemLtd/catalog/general_labware/funnels0.jpg"/>
          <p:cNvPicPr/>
          <p:nvPr/>
        </p:nvPicPr>
        <p:blipFill>
          <a:blip r:embed="rId1"/>
          <a:stretch/>
        </p:blipFill>
        <p:spPr>
          <a:xfrm>
            <a:off x="1219320" y="1676520"/>
            <a:ext cx="6705360" cy="4876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Капельная и делительные воронки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5" name="Содержимое 3" descr="Капельная и делительные воронки"/>
          <p:cNvPicPr/>
          <p:nvPr/>
        </p:nvPicPr>
        <p:blipFill>
          <a:blip r:embed="rId1"/>
          <a:stretch/>
        </p:blipFill>
        <p:spPr>
          <a:xfrm>
            <a:off x="1295280" y="1447920"/>
            <a:ext cx="6705720" cy="4952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Капельная воронка с компенсатором давления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7" name="Содержимое 3" descr="Капельная воронка с компенсатором давления"/>
          <p:cNvPicPr/>
          <p:nvPr/>
        </p:nvPicPr>
        <p:blipFill>
          <a:blip r:embed="rId1"/>
          <a:stretch/>
        </p:blipFill>
        <p:spPr>
          <a:xfrm>
            <a:off x="2057400" y="15238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7692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Колба</a:t>
            </a:r>
            <a:r>
              <a:rPr b="0" lang="ru-RU" sz="4000" spc="-1" strike="noStrike">
                <a:solidFill>
                  <a:srgbClr val="5b5b89"/>
                </a:solidFill>
                <a:latin typeface="Arial"/>
              </a:rPr>
              <a:t>  — стеклянный сосуд с круглым или плоским дном, обычно с узким длинным горлом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59" name="Picture 5" descr="про"/>
          <p:cNvPicPr/>
          <p:nvPr/>
        </p:nvPicPr>
        <p:blipFill>
          <a:blip r:embed="rId1"/>
          <a:stretch/>
        </p:blipFill>
        <p:spPr>
          <a:xfrm>
            <a:off x="5638680" y="1260360"/>
            <a:ext cx="3505320" cy="4530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457200" y="380520"/>
            <a:ext cx="403848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Воронка с перегородкой из пористого стекла</a:t>
            </a:r>
            <a:r>
              <a:rPr b="1" lang="ru-RU" sz="2800" spc="-1" strike="noStrike">
                <a:solidFill>
                  <a:srgbClr val="5b5b8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648320" y="380520"/>
            <a:ext cx="403848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0a25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b0a25"/>
                </a:solidFill>
                <a:latin typeface="Arial"/>
              </a:rPr>
              <a:t>Воронка фильтрующая Шотт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62" name="Рисунок 4" descr="Воронка с перегородкой из пористого стекла 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047760"/>
          </a:xfrm>
          <a:prstGeom prst="rect">
            <a:avLst/>
          </a:prstGeom>
          <a:ln w="0">
            <a:noFill/>
          </a:ln>
        </p:spPr>
      </p:pic>
      <p:pic>
        <p:nvPicPr>
          <p:cNvPr id="963" name="Рисунок 5" descr="http://aqualog.ru/uploads/images/1/3/2/e/6/c26f72f0ec.jpg"/>
          <p:cNvPicPr/>
          <p:nvPr/>
        </p:nvPicPr>
        <p:blipFill>
          <a:blip r:embed="rId2"/>
          <a:stretch/>
        </p:blipFill>
        <p:spPr>
          <a:xfrm>
            <a:off x="4724280" y="2286000"/>
            <a:ext cx="3924360" cy="320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Воронка для порошков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65" name="Содержимое 3" descr="http://www.fisherscientific.ru/UserFiles/Image/Laboratornaya_posuda_vitlab_iz_plastika/27995_1_big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53440" cy="5181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Химические стаканы </a:t>
            </a:r>
            <a:r>
              <a:rPr b="0" lang="ru-RU" sz="4000" spc="-1" strike="noStrike">
                <a:solidFill>
                  <a:srgbClr val="0b0a25"/>
                </a:solidFill>
                <a:latin typeface="Arial"/>
              </a:rPr>
              <a:t>- применяются для разнообразных химических работ: перемешивания, нагревания при помощи водяной бани, песочной бани или газовой горелки через асбестовую прокладку и т. п</a:t>
            </a:r>
            <a:r>
              <a:rPr b="0" i="1" lang="ru-RU" sz="4000" spc="-1" strike="noStrike">
                <a:solidFill>
                  <a:srgbClr val="0b0a25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b0a2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Химические стаканы фарфоровые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68" name="Содержимое 3" descr="http://www.laborkomplekt.ru/img/cat/item/5024-01_big.jpg"/>
          <p:cNvPicPr/>
          <p:nvPr/>
        </p:nvPicPr>
        <p:blipFill>
          <a:blip r:embed="rId1"/>
          <a:stretch/>
        </p:blipFill>
        <p:spPr>
          <a:xfrm>
            <a:off x="723960" y="1295280"/>
            <a:ext cx="7696080" cy="518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Стаканы лабораторные стеклянные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70" name="Содержимое 3" descr="http://www.turbohefe.eu/catalogus/fotos/20875_1.jpg"/>
          <p:cNvPicPr/>
          <p:nvPr/>
        </p:nvPicPr>
        <p:blipFill>
          <a:blip r:embed="rId1"/>
          <a:stretch/>
        </p:blipFill>
        <p:spPr>
          <a:xfrm>
            <a:off x="800280" y="12952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0a25"/>
                </a:solidFill>
                <a:latin typeface="Arial"/>
              </a:rPr>
              <a:t>Цель занятия:</a:t>
            </a:r>
            <a:br>
              <a:rPr sz="4400"/>
            </a:br>
            <a:r>
              <a:rPr b="0" lang="ru-RU" sz="4400" spc="-1" strike="noStrike">
                <a:solidFill>
                  <a:srgbClr val="0b0a25"/>
                </a:solidFill>
                <a:latin typeface="Arial"/>
              </a:rPr>
              <a:t>Ознакомиться с лабораторной посудой общего назначения.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457200" y="304920"/>
            <a:ext cx="403848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Стакан химический термостойкий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648320" y="304920"/>
            <a:ext cx="403848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Химический стакан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73" name="Рисунок 4" descr="http://www.biokont-med.ru/im.xp/052054050052124050052048048056052048054048.html"/>
          <p:cNvPicPr/>
          <p:nvPr/>
        </p:nvPicPr>
        <p:blipFill>
          <a:blip r:embed="rId1"/>
          <a:stretch/>
        </p:blipFill>
        <p:spPr>
          <a:xfrm>
            <a:off x="838080" y="1600200"/>
            <a:ext cx="3009960" cy="4724280"/>
          </a:xfrm>
          <a:prstGeom prst="rect">
            <a:avLst/>
          </a:prstGeom>
          <a:ln w="0">
            <a:noFill/>
          </a:ln>
        </p:spPr>
      </p:pic>
      <p:pic>
        <p:nvPicPr>
          <p:cNvPr id="974" name="Рисунок 5" descr="http://www.maxima-npk.ru/upload/image/veterinariy/rezervuari/himstakan.jpg"/>
          <p:cNvPicPr/>
          <p:nvPr/>
        </p:nvPicPr>
        <p:blipFill>
          <a:blip r:embed="rId2"/>
          <a:srcRect l="24001" t="10670" r="18001" b="17334"/>
          <a:stretch/>
        </p:blipFill>
        <p:spPr>
          <a:xfrm>
            <a:off x="457200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Стаканы химические с ручкой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76" name="Содержимое 4" descr="http://www.hlr.com.ua/upload/iblock/4b8/4b8c24447312cd4d12175eec6fa57d21_300300.jpg"/>
          <p:cNvPicPr/>
          <p:nvPr/>
        </p:nvPicPr>
        <p:blipFill>
          <a:blip r:embed="rId1"/>
          <a:stretch/>
        </p:blipFill>
        <p:spPr>
          <a:xfrm>
            <a:off x="685800" y="1981080"/>
            <a:ext cx="3657600" cy="3733920"/>
          </a:xfrm>
          <a:prstGeom prst="rect">
            <a:avLst/>
          </a:prstGeom>
          <a:ln w="0">
            <a:noFill/>
          </a:ln>
        </p:spPr>
      </p:pic>
      <p:pic>
        <p:nvPicPr>
          <p:cNvPr id="977" name="Содержимое 5" descr="http://www.termolab-ufa.ru/netcat_files/155/70/stakany.jpg"/>
          <p:cNvPicPr/>
          <p:nvPr/>
        </p:nvPicPr>
        <p:blipFill>
          <a:blip r:embed="rId2"/>
          <a:stretch/>
        </p:blipFill>
        <p:spPr>
          <a:xfrm>
            <a:off x="4648320" y="23526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78" name="TextBox 6"/>
          <p:cNvSpPr/>
          <p:nvPr/>
        </p:nvSpPr>
        <p:spPr>
          <a:xfrm>
            <a:off x="685800" y="10666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пластиковые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79" name="TextBox 7"/>
          <p:cNvSpPr/>
          <p:nvPr/>
        </p:nvSpPr>
        <p:spPr>
          <a:xfrm>
            <a:off x="4724280" y="10666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фарфоровые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Классификация колб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форме: круглодонные, плоскодонные, остродонные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типу горла: с коническими шлифами, с цилиндрическими шлифами, с простым горлом под резиновую пробку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емкости: от 5 мл до 50 000 мл (50 литров)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виду материала: стеклянные, кварцевые, металлические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термической устойчивости стекла: термостойкие, нетермостойкие;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о назначению: мерные колбы, колбы-реакторы, колбы-приемники.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Колбы плоскодонны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83" name="Содержимое 3" descr="Комплект колб (демонстрационный)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Колба Бунзена для фильтрования в вакууме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85" name="Содержимое 3" descr="http://www.laborkomplekt.ru/img/cat/item/2742-01_big.jpg"/>
          <p:cNvPicPr/>
          <p:nvPr/>
        </p:nvPicPr>
        <p:blipFill>
          <a:blip r:embed="rId1"/>
          <a:srcRect l="12707" t="13051" r="0" b="11590"/>
          <a:stretch/>
        </p:blipFill>
        <p:spPr>
          <a:xfrm>
            <a:off x="2324160" y="1676520"/>
            <a:ext cx="4495680" cy="4876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Чашка кристаллизационная с носиком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87" name="Содержимое 4" descr="http://www.mirlab.ru/d/187304/d/843845401_6.jpg"/>
          <p:cNvPicPr/>
          <p:nvPr/>
        </p:nvPicPr>
        <p:blipFill>
          <a:blip r:embed="rId1"/>
          <a:stretch/>
        </p:blipFill>
        <p:spPr>
          <a:xfrm>
            <a:off x="609480" y="1752480"/>
            <a:ext cx="3353040" cy="4114800"/>
          </a:xfrm>
          <a:prstGeom prst="rect">
            <a:avLst/>
          </a:prstGeom>
          <a:ln w="0">
            <a:noFill/>
          </a:ln>
        </p:spPr>
      </p:pic>
      <p:pic>
        <p:nvPicPr>
          <p:cNvPr id="988" name="Содержимое 5" descr="http://www.mentor-lab.ru/pic/chasha_kristall1.jpg"/>
          <p:cNvPicPr/>
          <p:nvPr/>
        </p:nvPicPr>
        <p:blipFill>
          <a:blip r:embed="rId2"/>
          <a:stretch/>
        </p:blipFill>
        <p:spPr>
          <a:xfrm>
            <a:off x="4495680" y="1981080"/>
            <a:ext cx="4038840" cy="3657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Чашки кристаллизационны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90" name="Содержимое 4" descr="http://www.uchmarket.ru/catalog/photo/11322.jpg"/>
          <p:cNvPicPr/>
          <p:nvPr/>
        </p:nvPicPr>
        <p:blipFill>
          <a:blip r:embed="rId1"/>
          <a:stretch/>
        </p:blipFill>
        <p:spPr>
          <a:xfrm>
            <a:off x="380880" y="2209680"/>
            <a:ext cx="4000680" cy="3086280"/>
          </a:xfrm>
          <a:prstGeom prst="rect">
            <a:avLst/>
          </a:prstGeom>
          <a:ln w="0">
            <a:noFill/>
          </a:ln>
        </p:spPr>
      </p:pic>
      <p:pic>
        <p:nvPicPr>
          <p:cNvPr id="991" name="Содержимое 5" descr="http://him.1september.ru/2006/02/7-3.jpg"/>
          <p:cNvPicPr/>
          <p:nvPr/>
        </p:nvPicPr>
        <p:blipFill>
          <a:blip r:embed="rId2"/>
          <a:stretch/>
        </p:blipFill>
        <p:spPr>
          <a:xfrm>
            <a:off x="4876920" y="220968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Промывалки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9256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0a25"/>
                </a:solidFill>
                <a:latin typeface="Arial"/>
              </a:rPr>
              <a:t>Полипропилен.</a:t>
            </a: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0a25"/>
                </a:solidFill>
                <a:latin typeface="Arial"/>
              </a:rPr>
              <a:t>Закручивающиеся крышки. Цветная кодировка</a:t>
            </a: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44720" y="1371240"/>
            <a:ext cx="4041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a25"/>
                </a:solidFill>
                <a:latin typeface="Arial"/>
              </a:rPr>
              <a:t>Цельные промывалки</a:t>
            </a: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95" name="Содержимое 6" descr="http://www.laborkomplekt.ru/img/cat/item/5344-01_sml.jpg"/>
          <p:cNvPicPr/>
          <p:nvPr/>
        </p:nvPicPr>
        <p:blipFill>
          <a:blip r:embed="rId1"/>
          <a:stretch/>
        </p:blipFill>
        <p:spPr>
          <a:xfrm>
            <a:off x="380880" y="2438280"/>
            <a:ext cx="3657600" cy="3218040"/>
          </a:xfrm>
          <a:prstGeom prst="rect">
            <a:avLst/>
          </a:prstGeom>
          <a:ln w="0">
            <a:noFill/>
          </a:ln>
        </p:spPr>
      </p:pic>
      <p:pic>
        <p:nvPicPr>
          <p:cNvPr id="996" name="Содержимое 7" descr="http://old.bioscorp.ru/UserFiles/Image/Laboratornaya_posuda_vitlab_iz_plastika/27820_1_big.jpg"/>
          <p:cNvPicPr/>
          <p:nvPr/>
        </p:nvPicPr>
        <p:blipFill>
          <a:blip r:embed="rId2"/>
          <a:stretch/>
        </p:blipFill>
        <p:spPr>
          <a:xfrm>
            <a:off x="4645080" y="2295360"/>
            <a:ext cx="4041720" cy="3710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Промывалки стеклянны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98" name="Содержимое 3" descr="http://www.rup-su.ru/Content/ProductImages/Product2159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Холодильники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00" name="Содержимое 3" descr="http://www.yarmarka-ryazan.ru/site_img/img1298497879_0_.JPG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518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Применение колб</a:t>
            </a:r>
            <a:br>
              <a:rPr sz="3600"/>
            </a:br>
            <a:r>
              <a:rPr b="0" lang="ru-RU" sz="3600" spc="-1" strike="noStrike">
                <a:solidFill>
                  <a:srgbClr val="0b0a25"/>
                </a:solidFill>
                <a:latin typeface="Arial"/>
              </a:rPr>
              <a:t>Колбы применяются в лабораториях в качестве реакционных сосудов. Существуют также специальные мерные колбы для приготовления с высокой точностью аналитических растворов.</a:t>
            </a:r>
            <a:br>
              <a:rPr sz="3600"/>
            </a:br>
            <a:r>
              <a:rPr b="0" lang="ru-RU" sz="3600" spc="-1" strike="noStrike">
                <a:solidFill>
                  <a:srgbClr val="0b0a25"/>
                </a:solidFill>
                <a:latin typeface="Arial"/>
              </a:rPr>
              <a:t>Для подогревания колб в лабораториях и в химических производствах используют специализированные и универсальные колбонагреватели 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Холодильники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02" name="Содержимое 4" descr="http://www.spekulyant-ru.ru/equipment/equipment_sale/foto/1408684_2.jpg"/>
          <p:cNvPicPr/>
          <p:nvPr/>
        </p:nvPicPr>
        <p:blipFill>
          <a:blip r:embed="rId1"/>
          <a:stretch/>
        </p:blipFill>
        <p:spPr>
          <a:xfrm>
            <a:off x="457200" y="2527200"/>
            <a:ext cx="4038480" cy="2679840"/>
          </a:xfrm>
          <a:prstGeom prst="rect">
            <a:avLst/>
          </a:prstGeom>
          <a:ln w="0">
            <a:noFill/>
          </a:ln>
        </p:spPr>
      </p:pic>
      <p:pic>
        <p:nvPicPr>
          <p:cNvPr id="1003" name="Содержимое 5" descr="http://glass-blower.ru/files/images/%20%D1%82%D1%80%D0%B5%D1%85%D0%BA%D0%BE%D0%BD%D1%82%D1%83%D1%80%D0%BD%D1%8B%D0%B9.JPG"/>
          <p:cNvPicPr/>
          <p:nvPr/>
        </p:nvPicPr>
        <p:blipFill>
          <a:blip r:embed="rId2"/>
          <a:stretch/>
        </p:blipFill>
        <p:spPr>
          <a:xfrm>
            <a:off x="4724280" y="25146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b0a25"/>
                </a:solidFill>
                <a:latin typeface="Arial"/>
              </a:rPr>
              <a:t>Лоток лабораторный-кювета 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05" name="Содержимое 4" descr="http://www.labsklad.ru/images/instruments/8700_1_b.jpg"/>
          <p:cNvPicPr/>
          <p:nvPr/>
        </p:nvPicPr>
        <p:blipFill>
          <a:blip r:embed="rId1"/>
          <a:stretch/>
        </p:blipFill>
        <p:spPr>
          <a:xfrm>
            <a:off x="4952880" y="3200400"/>
            <a:ext cx="3886200" cy="1600200"/>
          </a:xfrm>
          <a:prstGeom prst="rect">
            <a:avLst/>
          </a:prstGeom>
          <a:ln w="0">
            <a:noFill/>
          </a:ln>
        </p:spPr>
      </p:pic>
      <p:pic>
        <p:nvPicPr>
          <p:cNvPr id="1006" name="Содержимое 5" descr="http://files.ub.ua/goods/goods-photos/12/115445_1346205547.jpg"/>
          <p:cNvPicPr/>
          <p:nvPr/>
        </p:nvPicPr>
        <p:blipFill>
          <a:blip r:embed="rId2"/>
          <a:stretch/>
        </p:blipFill>
        <p:spPr>
          <a:xfrm>
            <a:off x="304920" y="2057400"/>
            <a:ext cx="4495680" cy="358128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6"/>
          <p:cNvSpPr/>
          <p:nvPr/>
        </p:nvSpPr>
        <p:spPr>
          <a:xfrm>
            <a:off x="380880" y="12193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пластиковый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08" name="TextBox 7"/>
          <p:cNvSpPr/>
          <p:nvPr/>
        </p:nvSpPr>
        <p:spPr>
          <a:xfrm>
            <a:off x="5029200" y="1143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металлический 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b0a25"/>
                </a:solidFill>
                <a:latin typeface="Arial"/>
              </a:rPr>
              <a:t>Посуда специального назначения</a:t>
            </a:r>
            <a:endParaRPr b="0" lang="en-US" sz="5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Колба Къельдаля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723920" y="304920"/>
            <a:ext cx="4041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олбы круглодонные для перегонки с шлифом (Вюрца) 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12" name="Содержимое 6" descr="http://www.mentor-lab.ru/pic/12_13_4_1.jpg"/>
          <p:cNvPicPr/>
          <p:nvPr/>
        </p:nvPicPr>
        <p:blipFill>
          <a:blip r:embed="rId1"/>
          <a:stretch/>
        </p:blipFill>
        <p:spPr>
          <a:xfrm>
            <a:off x="380880" y="2590920"/>
            <a:ext cx="4040280" cy="2679480"/>
          </a:xfrm>
          <a:prstGeom prst="rect">
            <a:avLst/>
          </a:prstGeom>
          <a:ln w="0">
            <a:noFill/>
          </a:ln>
        </p:spPr>
      </p:pic>
      <p:pic>
        <p:nvPicPr>
          <p:cNvPr id="1013" name="Содержимое 7" descr="http://www.klinlab.ru/KATALOG/himiko_posyda/ris_posyda/kolba67.jpg"/>
          <p:cNvPicPr/>
          <p:nvPr/>
        </p:nvPicPr>
        <p:blipFill>
          <a:blip r:embed="rId2"/>
          <a:stretch/>
        </p:blipFill>
        <p:spPr>
          <a:xfrm>
            <a:off x="4645080" y="1919160"/>
            <a:ext cx="4041720" cy="4192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40399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олба Клайзена с холодильником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647960" y="0"/>
            <a:ext cx="404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олба Арбузов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16" name="Содержимое 6" descr="http://www.ormet.ru/ImagesDir/1293_Image1.jpg"/>
          <p:cNvPicPr/>
          <p:nvPr/>
        </p:nvPicPr>
        <p:blipFill>
          <a:blip r:embed="rId1"/>
          <a:stretch/>
        </p:blipFill>
        <p:spPr>
          <a:xfrm>
            <a:off x="609480" y="1600200"/>
            <a:ext cx="3130560" cy="4456080"/>
          </a:xfrm>
          <a:prstGeom prst="rect">
            <a:avLst/>
          </a:prstGeom>
          <a:ln w="0">
            <a:noFill/>
          </a:ln>
        </p:spPr>
      </p:pic>
      <p:pic>
        <p:nvPicPr>
          <p:cNvPr id="1017" name="Содержимое 7" descr="http://gorod.tomsk.ru/uploads/20766/1274422987/no36_01.gif"/>
          <p:cNvPicPr/>
          <p:nvPr/>
        </p:nvPicPr>
        <p:blipFill>
          <a:blip r:embed="rId2"/>
          <a:stretch/>
        </p:blipFill>
        <p:spPr>
          <a:xfrm>
            <a:off x="5257800" y="1143000"/>
            <a:ext cx="3124080" cy="480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Аллонжи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19" name="Содержимое 3" descr="http://s56.radikal.ru/i153/0906/69/d40223230832.jpg"/>
          <p:cNvPicPr/>
          <p:nvPr/>
        </p:nvPicPr>
        <p:blipFill>
          <a:blip r:embed="rId1"/>
          <a:stretch/>
        </p:blipFill>
        <p:spPr>
          <a:xfrm>
            <a:off x="876240" y="13716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Дефлегматоры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21" name="Содержимое 3" descr="дефлегматоры различных конструкций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49604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4"/>
          <p:cNvSpPr/>
          <p:nvPr/>
        </p:nvSpPr>
        <p:spPr>
          <a:xfrm>
            <a:off x="0" y="5943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0a25"/>
                </a:solidFill>
                <a:latin typeface="Arial"/>
              </a:rPr>
              <a:t>а,б - шариковые, в - елочные,  г - с насадкой, д - Арбузова, е - Ганна</a:t>
            </a: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Елочные дефлегматоры и дефлегматор Видмара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24" name="Содержимое 3" descr=" "/>
          <p:cNvPicPr/>
          <p:nvPr/>
        </p:nvPicPr>
        <p:blipFill>
          <a:blip r:embed="rId1"/>
          <a:stretch/>
        </p:blipFill>
        <p:spPr>
          <a:xfrm>
            <a:off x="1028880" y="167652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Эксикаторы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26" name="Содержимое 4" descr="http://labposuda.narod.ru/images/ehksikatory_bez_krana.jpeg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4572000"/>
          </a:xfrm>
          <a:prstGeom prst="rect">
            <a:avLst/>
          </a:prstGeom>
          <a:ln w="0">
            <a:noFill/>
          </a:ln>
        </p:spPr>
      </p:pic>
      <p:pic>
        <p:nvPicPr>
          <p:cNvPr id="1027" name="Содержимое 5" descr="http://www.akvadistilljator.ru/UserFiles/Image/Laboratornaya_posuda_vitlab_iz_plastika/12049_1_big.jpg"/>
          <p:cNvPicPr/>
          <p:nvPr/>
        </p:nvPicPr>
        <p:blipFill>
          <a:blip r:embed="rId2"/>
          <a:stretch/>
        </p:blipFill>
        <p:spPr>
          <a:xfrm>
            <a:off x="4648320" y="1523880"/>
            <a:ext cx="3733560" cy="4486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Вакуум- эксикатор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29" name="Содержимое 4" descr="http://www.medshoppnz.ru/image/cache/data/laboratornay%20posuda/ehksikatory%20s_kranom-500x500.jpg"/>
          <p:cNvPicPr/>
          <p:nvPr/>
        </p:nvPicPr>
        <p:blipFill>
          <a:blip r:embed="rId1"/>
          <a:stretch/>
        </p:blipFill>
        <p:spPr>
          <a:xfrm>
            <a:off x="0" y="1295280"/>
            <a:ext cx="4572000" cy="4648320"/>
          </a:xfrm>
          <a:prstGeom prst="rect">
            <a:avLst/>
          </a:prstGeom>
          <a:ln w="0">
            <a:noFill/>
          </a:ln>
        </p:spPr>
      </p:pic>
      <p:pic>
        <p:nvPicPr>
          <p:cNvPr id="1030" name="Содержимое 5" descr="http://www.areometer.ru/UserFiles/Image/Laboratornaya_posuda_vitlab_iz_plastika/27452_1_big.jpg"/>
          <p:cNvPicPr/>
          <p:nvPr/>
        </p:nvPicPr>
        <p:blipFill>
          <a:blip r:embed="rId2"/>
          <a:stretch/>
        </p:blipFill>
        <p:spPr>
          <a:xfrm>
            <a:off x="4724280" y="1371600"/>
            <a:ext cx="4038840" cy="4724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8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Пробирки химические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30" name="Рисунок 8" descr="http://www.carlroth.com/media/_de-de/Graphics/00001390_0.jpg"/>
          <p:cNvPicPr/>
          <p:nvPr/>
        </p:nvPicPr>
        <p:blipFill>
          <a:blip r:embed="rId1"/>
          <a:stretch/>
        </p:blipFill>
        <p:spPr>
          <a:xfrm>
            <a:off x="876240" y="114300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Бутыль Вульфа (склянка-аспиратор)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32" name="Содержимое 4" descr="http://images.prom.ua/10230649_w200_h200_butyl_vulfa.jpg"/>
          <p:cNvPicPr/>
          <p:nvPr/>
        </p:nvPicPr>
        <p:blipFill>
          <a:blip r:embed="rId1"/>
          <a:stretch/>
        </p:blipFill>
        <p:spPr>
          <a:xfrm>
            <a:off x="533520" y="14479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1033" name="Содержимое 5" descr="http://www.akvadistilljator.ru/UserFiles/Image/Laboratornaya_posuda_simax_iz_chehii/28936_1_big.jpg"/>
          <p:cNvPicPr/>
          <p:nvPr/>
        </p:nvPicPr>
        <p:blipFill>
          <a:blip r:embed="rId2"/>
          <a:stretch/>
        </p:blipFill>
        <p:spPr>
          <a:xfrm>
            <a:off x="4724280" y="152388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Бутыль Вульфа (склянка-аспиратор)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35" name="Содержимое 4" descr="http://www.bioscorp.ru/UserFiles/Image/Butyl_vulfa/28946_1_big.jpg"/>
          <p:cNvPicPr/>
          <p:nvPr/>
        </p:nvPicPr>
        <p:blipFill>
          <a:blip r:embed="rId1"/>
          <a:stretch/>
        </p:blipFill>
        <p:spPr>
          <a:xfrm>
            <a:off x="817560" y="1600200"/>
            <a:ext cx="3317760" cy="4533840"/>
          </a:xfrm>
          <a:prstGeom prst="rect">
            <a:avLst/>
          </a:prstGeom>
          <a:ln w="0">
            <a:noFill/>
          </a:ln>
        </p:spPr>
      </p:pic>
      <p:pic>
        <p:nvPicPr>
          <p:cNvPr id="1036" name="Содержимое 5" descr="http://www.akvadistilljator.ru/UserFiles/Image/Laboratornaya_posuda_simax_iz_chehii/28942_1.jpg"/>
          <p:cNvPicPr/>
          <p:nvPr/>
        </p:nvPicPr>
        <p:blipFill>
          <a:blip r:embed="rId2"/>
          <a:stretch/>
        </p:blipFill>
        <p:spPr>
          <a:xfrm>
            <a:off x="464832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Склянка Дрекселя, для промывания газов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38" name="Содержимое 3" descr="http://www.mentor-lab.ru/pic/12_21_1.jpg"/>
          <p:cNvPicPr/>
          <p:nvPr/>
        </p:nvPicPr>
        <p:blipFill>
          <a:blip r:embed="rId1"/>
          <a:srcRect l="33650" t="1567" r="30658" b="4691"/>
          <a:stretch/>
        </p:blipFill>
        <p:spPr>
          <a:xfrm>
            <a:off x="762120" y="1143000"/>
            <a:ext cx="3886200" cy="5334120"/>
          </a:xfrm>
          <a:prstGeom prst="rect">
            <a:avLst/>
          </a:prstGeom>
          <a:ln w="0">
            <a:noFill/>
          </a:ln>
        </p:spPr>
      </p:pic>
      <p:pic>
        <p:nvPicPr>
          <p:cNvPr id="1039" name="Рисунок 4" descr="http://www.bioscorp.ru/UserFiles/Image/Laboratornaya_posuda_simax_iz_chehii/28332_1.jpg"/>
          <p:cNvPicPr/>
          <p:nvPr/>
        </p:nvPicPr>
        <p:blipFill>
          <a:blip r:embed="rId2"/>
          <a:srcRect l="15217" t="0" r="15217" b="0"/>
          <a:stretch/>
        </p:blipFill>
        <p:spPr>
          <a:xfrm>
            <a:off x="5410080" y="1219320"/>
            <a:ext cx="2971800" cy="52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Склянка Тищенко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41" name="Содержимое 4" descr="http://img.board.com.ua/a/1043446148/wm/1-sklyanka-tischenko-250-ml-spzh.jpg"/>
          <p:cNvPicPr/>
          <p:nvPr/>
        </p:nvPicPr>
        <p:blipFill>
          <a:blip r:embed="rId1"/>
          <a:stretch/>
        </p:blipFill>
        <p:spPr>
          <a:xfrm>
            <a:off x="533520" y="1676520"/>
            <a:ext cx="4114800" cy="4419360"/>
          </a:xfrm>
          <a:prstGeom prst="rect">
            <a:avLst/>
          </a:prstGeom>
          <a:ln w="0">
            <a:noFill/>
          </a:ln>
        </p:spPr>
      </p:pic>
      <p:pic>
        <p:nvPicPr>
          <p:cNvPr id="1042" name="Содержимое 5" descr="http://chemistry-chemists.com/N2_2012/U3/glass-1.jpg"/>
          <p:cNvPicPr/>
          <p:nvPr/>
        </p:nvPicPr>
        <p:blipFill>
          <a:blip r:embed="rId2"/>
          <a:stretch/>
        </p:blipFill>
        <p:spPr>
          <a:xfrm>
            <a:off x="4967280" y="1600200"/>
            <a:ext cx="3400560" cy="4533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Аппарат Киппа 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44" name="Содержимое 4" descr="http://www.baltalab.lv/img/labtex_kipp.jpg"/>
          <p:cNvPicPr/>
          <p:nvPr/>
        </p:nvPicPr>
        <p:blipFill>
          <a:blip r:embed="rId1"/>
          <a:stretch/>
        </p:blipFill>
        <p:spPr>
          <a:xfrm>
            <a:off x="457200" y="1447920"/>
            <a:ext cx="3692520" cy="4476600"/>
          </a:xfrm>
          <a:prstGeom prst="rect">
            <a:avLst/>
          </a:prstGeom>
          <a:ln w="0">
            <a:noFill/>
          </a:ln>
        </p:spPr>
      </p:pic>
      <p:pic>
        <p:nvPicPr>
          <p:cNvPr id="1045" name="Содержимое 5" descr="http://www.nimr.mrc.ac.uk/images/multimedia/mill_hill_essays/kipps-large.jpg"/>
          <p:cNvPicPr/>
          <p:nvPr/>
        </p:nvPicPr>
        <p:blipFill>
          <a:blip r:embed="rId2"/>
          <a:stretch/>
        </p:blipFill>
        <p:spPr>
          <a:xfrm>
            <a:off x="5181480" y="1447920"/>
            <a:ext cx="3353040" cy="4419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2538"/>
                </a:solidFill>
                <a:latin typeface="Arial"/>
              </a:rPr>
              <a:t>Принцип действия аппарата Киппа 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47" name="Содержимое 4" descr="Аппарат Киппа"/>
          <p:cNvPicPr/>
          <p:nvPr/>
        </p:nvPicPr>
        <p:blipFill>
          <a:blip r:embed="rId1"/>
          <a:stretch/>
        </p:blipFill>
        <p:spPr>
          <a:xfrm>
            <a:off x="609480" y="1143000"/>
            <a:ext cx="3792600" cy="4991040"/>
          </a:xfrm>
          <a:prstGeom prst="rect">
            <a:avLst/>
          </a:prstGeom>
          <a:ln w="0">
            <a:noFill/>
          </a:ln>
        </p:spPr>
      </p:pic>
      <p:pic>
        <p:nvPicPr>
          <p:cNvPr id="1048" name="Содержимое 5" descr="Аппарат Киппа"/>
          <p:cNvPicPr/>
          <p:nvPr/>
        </p:nvPicPr>
        <p:blipFill>
          <a:blip r:embed="rId2"/>
          <a:stretch/>
        </p:blipFill>
        <p:spPr>
          <a:xfrm>
            <a:off x="4876920" y="1143000"/>
            <a:ext cx="3733560" cy="4991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4040280" cy="10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апельница–дозатор из темного стекл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47960" y="304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апельница Шустер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51" name="Содержимое 6" descr="http://www.nordlab.net/kapelnica-dozator.jpeg"/>
          <p:cNvPicPr/>
          <p:nvPr/>
        </p:nvPicPr>
        <p:blipFill>
          <a:blip r:embed="rId1"/>
          <a:stretch/>
        </p:blipFill>
        <p:spPr>
          <a:xfrm>
            <a:off x="304920" y="1600200"/>
            <a:ext cx="3581280" cy="4191120"/>
          </a:xfrm>
          <a:prstGeom prst="rect">
            <a:avLst/>
          </a:prstGeom>
          <a:ln w="0">
            <a:noFill/>
          </a:ln>
        </p:spPr>
      </p:pic>
      <p:pic>
        <p:nvPicPr>
          <p:cNvPr id="1052" name="Содержимое 7" descr="http://www.farmsteklo.ru/images/kat_kapelnitsy01.jpg"/>
          <p:cNvPicPr/>
          <p:nvPr/>
        </p:nvPicPr>
        <p:blipFill>
          <a:blip r:embed="rId2"/>
          <a:stretch/>
        </p:blipFill>
        <p:spPr>
          <a:xfrm>
            <a:off x="4419720" y="23623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40402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Банка-капельница с крышкой-капельницей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723920" y="3805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Капельница-дозатор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55" name="Содержимое 6" descr="http://www.karteltrade.ru/files/prodimage/pvl-prod-39785-4da42d3cdcec6.jpg"/>
          <p:cNvPicPr/>
          <p:nvPr/>
        </p:nvPicPr>
        <p:blipFill>
          <a:blip r:embed="rId1"/>
          <a:stretch/>
        </p:blipFill>
        <p:spPr>
          <a:xfrm>
            <a:off x="609480" y="1905120"/>
            <a:ext cx="3810240" cy="4267080"/>
          </a:xfrm>
          <a:prstGeom prst="rect">
            <a:avLst/>
          </a:prstGeom>
          <a:ln w="0">
            <a:noFill/>
          </a:ln>
        </p:spPr>
      </p:pic>
      <p:pic>
        <p:nvPicPr>
          <p:cNvPr id="1056" name="Содержимое 7" descr="Капельница-дозатор"/>
          <p:cNvPicPr/>
          <p:nvPr/>
        </p:nvPicPr>
        <p:blipFill>
          <a:blip r:embed="rId2"/>
          <a:stretch/>
        </p:blipFill>
        <p:spPr>
          <a:xfrm>
            <a:off x="4648320" y="1905120"/>
            <a:ext cx="3962160" cy="4114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0a25"/>
                </a:solidFill>
                <a:latin typeface="Arial"/>
              </a:rPr>
              <a:t>Каплеуловители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58" name="Содержимое 3" descr="http://www.ormet.ru/ImagesDir/1652_Image1.jpg"/>
          <p:cNvPicPr/>
          <p:nvPr/>
        </p:nvPicPr>
        <p:blipFill>
          <a:blip r:embed="rId1"/>
          <a:stretch/>
        </p:blipFill>
        <p:spPr>
          <a:xfrm>
            <a:off x="0" y="15238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059" name="Рисунок 4" descr="http://spectralsystems.ru/images/cms/catalog/labware/kapleulov-286x283.png"/>
          <p:cNvPicPr/>
          <p:nvPr/>
        </p:nvPicPr>
        <p:blipFill>
          <a:blip r:embed="rId2"/>
          <a:stretch/>
        </p:blipFill>
        <p:spPr>
          <a:xfrm>
            <a:off x="4419720" y="1600200"/>
            <a:ext cx="4724280" cy="4114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Чашки Петри </a:t>
            </a:r>
            <a:br>
              <a:rPr sz="3600"/>
            </a:b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двух-, трех- и четырехсекционные 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61" name="Содержимое 3" descr="&lt;br&gt;&lt;b&gt;Чашки Петри стерильные&lt;/b&gt;"/>
          <p:cNvPicPr/>
          <p:nvPr/>
        </p:nvPicPr>
        <p:blipFill>
          <a:blip r:embed="rId1"/>
          <a:stretch/>
        </p:blipFill>
        <p:spPr>
          <a:xfrm>
            <a:off x="1447920" y="1828800"/>
            <a:ext cx="6553080" cy="464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Такими являются: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Колбы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Пробирк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Воронк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Стаканы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b89"/>
                </a:solidFill>
                <a:latin typeface="Arial"/>
              </a:rPr>
              <a:t>Кристаллизаторы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33" name="Picture 7" descr="лшогр"/>
          <p:cNvPicPr/>
          <p:nvPr/>
        </p:nvPicPr>
        <p:blipFill>
          <a:blip r:embed="rId6"/>
          <a:stretch/>
        </p:blipFill>
        <p:spPr>
          <a:xfrm>
            <a:off x="3733920" y="18288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Чашка Петр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495320" y="533520"/>
            <a:ext cx="4343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Чашка Петр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0a25"/>
                </a:solidFill>
                <a:latin typeface="Arial"/>
              </a:rPr>
              <a:t>с литой сеткой в нижней части</a:t>
            </a:r>
            <a:endParaRPr b="0" lang="en-US" sz="32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1064" name="Содержимое 6" descr="http://www.entheoflora.org/products_pictures/chashki.jpg"/>
          <p:cNvPicPr/>
          <p:nvPr/>
        </p:nvPicPr>
        <p:blipFill>
          <a:blip r:embed="rId1"/>
          <a:stretch/>
        </p:blipFill>
        <p:spPr>
          <a:xfrm>
            <a:off x="457200" y="2809800"/>
            <a:ext cx="4040280" cy="2681280"/>
          </a:xfrm>
          <a:prstGeom prst="rect">
            <a:avLst/>
          </a:prstGeom>
          <a:ln w="0">
            <a:noFill/>
          </a:ln>
        </p:spPr>
      </p:pic>
      <p:pic>
        <p:nvPicPr>
          <p:cNvPr id="1065" name="Содержимое 7" descr="http://www.sks-science.com/images/D210-17LRG.jpg"/>
          <p:cNvPicPr/>
          <p:nvPr/>
        </p:nvPicPr>
        <p:blipFill>
          <a:blip r:embed="rId2"/>
          <a:stretch/>
        </p:blipFill>
        <p:spPr>
          <a:xfrm>
            <a:off x="4645080" y="2743200"/>
            <a:ext cx="4041720" cy="2678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0a25"/>
                </a:solidFill>
                <a:latin typeface="Arial"/>
              </a:rPr>
              <a:t>Чашка Конвея для определения щелочногидролизируемого азота по Корнфилду</a:t>
            </a:r>
            <a:endParaRPr b="0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067" name="Содержимое 4" descr="чашка Конвея для определения щелочногидролизируемого азота по Корнфилду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1068" name="Содержимое 5" descr="Чашка Конвея"/>
          <p:cNvPicPr/>
          <p:nvPr/>
        </p:nvPicPr>
        <p:blipFill>
          <a:blip r:embed="rId2"/>
          <a:stretch/>
        </p:blipFill>
        <p:spPr>
          <a:xfrm>
            <a:off x="5029200" y="2362320"/>
            <a:ext cx="3581280" cy="3276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6699"/>
                </a:solidFill>
                <a:latin typeface="Arial"/>
              </a:rPr>
              <a:t>Спасибо за внимание!!!</a:t>
            </a:r>
            <a:endParaRPr b="0" lang="en-US" sz="8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Содержимое 4" descr="http://board.medprof.ru/images/normal/4578.jpg"/>
          <p:cNvPicPr/>
          <p:nvPr/>
        </p:nvPicPr>
        <p:blipFill>
          <a:blip r:embed="rId1"/>
          <a:stretch/>
        </p:blipFill>
        <p:spPr>
          <a:xfrm>
            <a:off x="304920" y="1600200"/>
            <a:ext cx="3962160" cy="4648320"/>
          </a:xfrm>
          <a:prstGeom prst="rect">
            <a:avLst/>
          </a:prstGeom>
          <a:ln w="0">
            <a:noFill/>
          </a:ln>
        </p:spPr>
      </p:pic>
      <p:pic>
        <p:nvPicPr>
          <p:cNvPr id="935" name="Содержимое 5" descr="http://www.nn.ru/data/forum/images/2012-04/49045753-image005.jpg"/>
          <p:cNvPicPr/>
          <p:nvPr/>
        </p:nvPicPr>
        <p:blipFill>
          <a:blip r:embed="rId2"/>
          <a:stretch/>
        </p:blipFill>
        <p:spPr>
          <a:xfrm>
            <a:off x="4343400" y="1752480"/>
            <a:ext cx="4495680" cy="4419720"/>
          </a:xfrm>
          <a:prstGeom prst="rect">
            <a:avLst/>
          </a:prstGeom>
          <a:ln w="0">
            <a:noFill/>
          </a:ln>
        </p:spPr>
      </p:pic>
      <p:sp>
        <p:nvSpPr>
          <p:cNvPr id="936" name="TextBox 6"/>
          <p:cNvSpPr/>
          <p:nvPr/>
        </p:nvSpPr>
        <p:spPr>
          <a:xfrm>
            <a:off x="380880" y="304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а вакуумная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37" name="TextBox 7"/>
          <p:cNvSpPr/>
          <p:nvPr/>
        </p:nvSpPr>
        <p:spPr>
          <a:xfrm>
            <a:off x="4343400" y="304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а одноразовая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304560" y="456840"/>
            <a:ext cx="419076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и круглодонные с  завинчивающимися крышками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647960" y="380520"/>
            <a:ext cx="419076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и конические из пластика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40" name="Рисунок 5" descr="http://www.volosov.se-ua.net/images/probirki_s_krishkami_noviy_razmer.jpg"/>
          <p:cNvPicPr/>
          <p:nvPr/>
        </p:nvPicPr>
        <p:blipFill>
          <a:blip r:embed="rId1"/>
          <a:stretch/>
        </p:blipFill>
        <p:spPr>
          <a:xfrm>
            <a:off x="457200" y="2362320"/>
            <a:ext cx="3971880" cy="2857320"/>
          </a:xfrm>
          <a:prstGeom prst="rect">
            <a:avLst/>
          </a:prstGeom>
          <a:ln w="0">
            <a:noFill/>
          </a:ln>
        </p:spPr>
      </p:pic>
      <p:pic>
        <p:nvPicPr>
          <p:cNvPr id="941" name="Рисунок 6" descr="http://www.volosov.se-ua.net/images/kon_noviy_razmer.jpg"/>
          <p:cNvPicPr/>
          <p:nvPr/>
        </p:nvPicPr>
        <p:blipFill>
          <a:blip r:embed="rId2"/>
          <a:stretch/>
        </p:blipFill>
        <p:spPr>
          <a:xfrm>
            <a:off x="4572000" y="2362320"/>
            <a:ext cx="4114800" cy="2819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457200" y="380520"/>
            <a:ext cx="403848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и конические (фальконы) с градуировкой и винтовой крышкой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495680" y="380520"/>
            <a:ext cx="419112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и пластиковые центрифужные конические ПП и ПС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44" name="Рисунок 4" descr="http://www.volosov.se-ua.net/images/2_noviy_razmer.jpg"/>
          <p:cNvPicPr/>
          <p:nvPr/>
        </p:nvPicPr>
        <p:blipFill>
          <a:blip r:embed="rId1"/>
          <a:stretch/>
        </p:blipFill>
        <p:spPr>
          <a:xfrm>
            <a:off x="380880" y="32767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945" name="Рисунок 5" descr="http://medprom.ru/pictures/8317/3.jpg"/>
          <p:cNvPicPr/>
          <p:nvPr/>
        </p:nvPicPr>
        <p:blipFill>
          <a:blip r:embed="rId2"/>
          <a:stretch/>
        </p:blipFill>
        <p:spPr>
          <a:xfrm>
            <a:off x="5181480" y="2514600"/>
            <a:ext cx="2667240" cy="3733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304560" y="456840"/>
            <a:ext cx="419076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а двустенная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648320" y="380520"/>
            <a:ext cx="403848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b0a25"/>
                </a:solidFill>
                <a:latin typeface="Arial"/>
              </a:rPr>
              <a:t>Пробирка центрифужная градуированная</a:t>
            </a: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b89"/>
              </a:solidFill>
              <a:latin typeface="Arial"/>
            </a:endParaRPr>
          </a:p>
        </p:txBody>
      </p:sp>
      <p:pic>
        <p:nvPicPr>
          <p:cNvPr id="948" name="Рисунок 4" descr="http://www.klinlab.ru/KATALOG/himiko_posyda/ris_posyda/probirka606a.jpg"/>
          <p:cNvPicPr/>
          <p:nvPr/>
        </p:nvPicPr>
        <p:blipFill>
          <a:blip r:embed="rId1"/>
          <a:stretch/>
        </p:blipFill>
        <p:spPr>
          <a:xfrm>
            <a:off x="533520" y="1447920"/>
            <a:ext cx="3417840" cy="4865400"/>
          </a:xfrm>
          <a:prstGeom prst="rect">
            <a:avLst/>
          </a:prstGeom>
          <a:ln w="0">
            <a:noFill/>
          </a:ln>
        </p:spPr>
      </p:pic>
      <p:pic>
        <p:nvPicPr>
          <p:cNvPr id="949" name="Рисунок 5" descr="Пробирка центрифужная градуированная "/>
          <p:cNvPicPr/>
          <p:nvPr/>
        </p:nvPicPr>
        <p:blipFill>
          <a:blip r:embed="rId2"/>
          <a:stretch/>
        </p:blipFill>
        <p:spPr>
          <a:xfrm>
            <a:off x="4572000" y="198108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40:50Z</dcterms:created>
  <dc:creator>User</dc:creator>
  <dc:description/>
  <dc:language>en-US</dc:language>
  <cp:lastModifiedBy>Пользователь</cp:lastModifiedBy>
  <dcterms:modified xsi:type="dcterms:W3CDTF">2013-09-26T04:53:59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